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ACC-69A7-4217-821C-2E02E9A2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3A95-AA2A-42BC-9947-603EED90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B520-99EC-4190-A0A6-0C16348E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A0E6-630C-462F-8155-1C5E7808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C05-86C4-4C55-A3A6-DD9C9885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02D-7251-4413-B761-7DA76657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BB75-7B88-4780-A5A8-21DD6046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4EA-283E-498E-9FCB-D8BC4185C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187E-D745-4259-8440-39BFB8BC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162-17CE-4BFE-B974-75511CE0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881-C400-4203-9259-E3AEA1C9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F18-063A-4F7C-BC83-30F794C3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9AC-54BC-4F8E-A145-E0DC0026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1CE-96C9-46D6-83FC-2F453E9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567-6393-42AB-8899-83D8791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F30-8639-4033-A766-9984405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8AC-0F4E-41B6-A0D6-306AA67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0B2-CFB3-4CAC-BBBA-B9723EF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89F-01C5-4114-9407-A2626EA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178-199D-4E34-9C51-5075EC4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F17-0F8D-4CDD-9846-481EE8C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E746-30CD-4E85-87CE-A79510AA0C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ative 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7238880" cy="857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Argument 1: Suppor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rst, smoking undoubtedly helps many people to rel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 some, it even improves concen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eople 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like to smoke before exa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hen they are relaxing with friends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Line Callout 1 4" descr=""/>
          <p:cNvPicPr/>
          <p:nvPr/>
        </p:nvPicPr>
        <p:blipFill>
          <a:blip r:embed="rId1"/>
          <a:stretch/>
        </p:blipFill>
        <p:spPr>
          <a:xfrm>
            <a:off x="115920" y="4200480"/>
            <a:ext cx="2359080" cy="968400"/>
          </a:xfrm>
          <a:prstGeom prst="rect">
            <a:avLst/>
          </a:prstGeom>
          <a:ln w="0">
            <a:noFill/>
          </a:ln>
        </p:spPr>
      </p:pic>
      <p:pic>
        <p:nvPicPr>
          <p:cNvPr id="79" name="Line Callout 1 5" descr=""/>
          <p:cNvPicPr/>
          <p:nvPr/>
        </p:nvPicPr>
        <p:blipFill>
          <a:blip r:embed="rId2"/>
          <a:stretch/>
        </p:blipFill>
        <p:spPr>
          <a:xfrm>
            <a:off x="115920" y="2328840"/>
            <a:ext cx="2359080" cy="738360"/>
          </a:xfrm>
          <a:prstGeom prst="rect">
            <a:avLst/>
          </a:prstGeom>
          <a:ln w="0">
            <a:noFill/>
          </a:ln>
        </p:spPr>
      </p:pic>
      <p:pic>
        <p:nvPicPr>
          <p:cNvPr id="80" name="Line Callout 1 6" descr=""/>
          <p:cNvPicPr/>
          <p:nvPr/>
        </p:nvPicPr>
        <p:blipFill>
          <a:blip r:embed="rId3"/>
          <a:stretch/>
        </p:blipFill>
        <p:spPr>
          <a:xfrm>
            <a:off x="115920" y="3243240"/>
            <a:ext cx="2359080" cy="7383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7"/>
          <p:cNvCxnSpPr/>
          <p:nvPr/>
        </p:nvCxnSpPr>
        <p:spPr>
          <a:xfrm>
            <a:off x="3962160" y="2971440"/>
            <a:ext cx="1080" cy="20577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82" name="Straight Arrow Connector 14"/>
          <p:cNvCxnSpPr/>
          <p:nvPr/>
        </p:nvCxnSpPr>
        <p:spPr>
          <a:xfrm>
            <a:off x="5409720" y="3733920"/>
            <a:ext cx="1080" cy="8006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</p:cxn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point is that the tobacco industry also employs tens of thousands of people throughout the world, particularly in poorer countries like Zimbabwe or India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Without cigarettes, these people would have no jobs.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ine Callout 1 3" descr=""/>
          <p:cNvPicPr/>
          <p:nvPr/>
        </p:nvPicPr>
        <p:blipFill>
          <a:blip r:embed="rId1"/>
          <a:stretch/>
        </p:blipFill>
        <p:spPr>
          <a:xfrm>
            <a:off x="85680" y="2328840"/>
            <a:ext cx="2389320" cy="890640"/>
          </a:xfrm>
          <a:prstGeom prst="rect">
            <a:avLst/>
          </a:prstGeom>
          <a:ln w="0">
            <a:noFill/>
          </a:ln>
        </p:spPr>
      </p:pic>
      <p:pic>
        <p:nvPicPr>
          <p:cNvPr id="86" name="Line Callout 1 4" descr=""/>
          <p:cNvPicPr/>
          <p:nvPr/>
        </p:nvPicPr>
        <p:blipFill>
          <a:blip r:embed="rId2"/>
          <a:stretch/>
        </p:blipFill>
        <p:spPr>
          <a:xfrm>
            <a:off x="115920" y="3975120"/>
            <a:ext cx="23590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esents the other side of the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hat those who disagree with you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fut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your answer to those who disagre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rguments against smoking are well know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. Smoking has been shown to be dangerous to health. Heart disease, bronchitis and lung cancer have all been linked. 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 = Topic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d = Counter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76092"/>
                </a:solidFill>
                <a:uFillTx/>
                <a:latin typeface="Arial"/>
              </a:rPr>
              <a:t>Blue = Ref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rguments against smoking are well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moking has been shown to be dangerous to health. Heart disease, bronchitis and lung cancer have all been link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ine Callout 1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2359080" cy="907920"/>
          </a:xfrm>
          <a:prstGeom prst="rect">
            <a:avLst/>
          </a:prstGeom>
          <a:ln w="0">
            <a:noFill/>
          </a:ln>
        </p:spPr>
      </p:pic>
      <p:pic>
        <p:nvPicPr>
          <p:cNvPr id="94" name="Line Callout 1 4" descr=""/>
          <p:cNvPicPr/>
          <p:nvPr/>
        </p:nvPicPr>
        <p:blipFill>
          <a:blip r:embed="rId2"/>
          <a:stretch/>
        </p:blipFill>
        <p:spPr>
          <a:xfrm>
            <a:off x="115920" y="4005360"/>
            <a:ext cx="2359080" cy="890640"/>
          </a:xfrm>
          <a:prstGeom prst="rect">
            <a:avLst/>
          </a:prstGeom>
          <a:ln w="0">
            <a:noFill/>
          </a:ln>
        </p:spPr>
      </p:pic>
      <p:pic>
        <p:nvPicPr>
          <p:cNvPr id="95" name="Line Callout 1 5" descr=""/>
          <p:cNvPicPr/>
          <p:nvPr/>
        </p:nvPicPr>
        <p:blipFill>
          <a:blip r:embed="rId3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ives your answer to the counte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Writing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 conclusion should do some or all of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state the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ummarize the main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state argument or ref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ok to the future – what will happen if your argument is accepted or not accepted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f smoking is banned, many people will lose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Writing a conclus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must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nything n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examples, evidence o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ref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can only restate or summarize what is in the first four paragraphs or look to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I think the world would be a better place without cigaret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decision as to whether to smoke or not should be for each individual to m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Line Callout 1 3" descr=""/>
          <p:cNvPicPr/>
          <p:nvPr/>
        </p:nvPicPr>
        <p:blipFill>
          <a:blip r:embed="rId1"/>
          <a:stretch/>
        </p:blipFill>
        <p:spPr>
          <a:xfrm>
            <a:off x="96840" y="1944720"/>
            <a:ext cx="2378160" cy="890640"/>
          </a:xfrm>
          <a:prstGeom prst="rect">
            <a:avLst/>
          </a:prstGeom>
          <a:ln w="0">
            <a:noFill/>
          </a:ln>
        </p:spPr>
      </p:pic>
      <p:pic>
        <p:nvPicPr>
          <p:cNvPr id="105" name="Line Callout 1 4" descr=""/>
          <p:cNvPicPr/>
          <p:nvPr/>
        </p:nvPicPr>
        <p:blipFill>
          <a:blip r:embed="rId2"/>
          <a:stretch/>
        </p:blipFill>
        <p:spPr>
          <a:xfrm>
            <a:off x="115920" y="3852720"/>
            <a:ext cx="235908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ST Format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top of the page you should have in 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English name followed by your famil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your class: 41, 42, 43,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n day, month, year: 21 Febr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of the assignment (cen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New Roman 12 point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sp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ine of each paragraph indented at 1.27 cm or ½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ra space between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and right margins at 2.54 cm or one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ttom of the page you should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count of the body. Th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header information, title, or the word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ative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 type of essay that attempts to persuade the reader to your point of vie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n an argumentative essay you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tat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ive your arguments (rea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pport your arguments with evidence, examples, stor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resent an opposing view and show why you disagree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ELTS Writing Task 2 is an argumentativ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56754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Line Callout 1 13" descr=""/>
          <p:cNvPicPr/>
          <p:nvPr/>
        </p:nvPicPr>
        <p:blipFill>
          <a:blip r:embed="rId2"/>
          <a:stretch/>
        </p:blipFill>
        <p:spPr>
          <a:xfrm>
            <a:off x="42840" y="1566720"/>
            <a:ext cx="64245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Line Callout 1 14" descr=""/>
          <p:cNvPicPr/>
          <p:nvPr/>
        </p:nvPicPr>
        <p:blipFill>
          <a:blip r:embed="rId3"/>
          <a:stretch/>
        </p:blipFill>
        <p:spPr>
          <a:xfrm>
            <a:off x="42840" y="2541600"/>
            <a:ext cx="525456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0"/>
          <p:cNvGrpSpPr/>
          <p:nvPr/>
        </p:nvGrpSpPr>
        <p:grpSpPr>
          <a:xfrm>
            <a:off x="30240" y="3200400"/>
            <a:ext cx="3703320" cy="2285640"/>
            <a:chOff x="30240" y="3200400"/>
            <a:chExt cx="3703320" cy="2285640"/>
          </a:xfrm>
        </p:grpSpPr>
        <p:sp>
          <p:nvSpPr>
            <p:cNvPr id="114" name="Left Brace 17"/>
            <p:cNvSpPr/>
            <p:nvPr/>
          </p:nvSpPr>
          <p:spPr>
            <a:xfrm>
              <a:off x="3582000" y="3200400"/>
              <a:ext cx="151560" cy="2285640"/>
            </a:xfrm>
            <a:custGeom>
              <a:avLst/>
              <a:gdLst>
                <a:gd name="textAreaLeft" fmla="*/ 96840 w 151560"/>
                <a:gd name="textAreaRight" fmla="*/ 151920 w 151560"/>
                <a:gd name="textAreaTop" fmla="*/ 178560 h 2285640"/>
                <a:gd name="textAreaBottom" fmla="*/ 2107080 h 22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00"/>
                    <a:pt x="10800" y="5400"/>
                  </a:cubicBezTo>
                  <a:lnTo>
                    <a:pt x="10800" y="5400"/>
                  </a:lnTo>
                  <a:cubicBezTo>
                    <a:pt x="10800" y="8100"/>
                    <a:pt x="5400" y="10800"/>
                    <a:pt x="0" y="10800"/>
                  </a:cubicBezTo>
                  <a:cubicBezTo>
                    <a:pt x="5400" y="10800"/>
                    <a:pt x="10800" y="13500"/>
                    <a:pt x="10800" y="16200"/>
                  </a:cubicBezTo>
                  <a:lnTo>
                    <a:pt x="10800" y="16200"/>
                  </a:lnTo>
                  <a:cubicBezTo>
                    <a:pt x="10800" y="189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Line Callout 1 15" descr=""/>
            <p:cNvPicPr/>
            <p:nvPr/>
          </p:nvPicPr>
          <p:blipFill>
            <a:blip r:embed="rId4"/>
            <a:stretch/>
          </p:blipFill>
          <p:spPr>
            <a:xfrm>
              <a:off x="30240" y="3304800"/>
              <a:ext cx="3603960" cy="200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Line Callout 1 8" descr=""/>
          <p:cNvPicPr/>
          <p:nvPr/>
        </p:nvPicPr>
        <p:blipFill>
          <a:blip r:embed="rId5"/>
          <a:stretch/>
        </p:blipFill>
        <p:spPr>
          <a:xfrm>
            <a:off x="42840" y="5510160"/>
            <a:ext cx="735156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ative Essay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dly Sins (-10 pts. eac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lling, capitalization, etc., 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UST standards 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e: -10 for each d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s (60 pts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: Intro. topic, Thesis Stat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gument 1: topic, exampl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gument 2: topic, exampl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unter argument &amp; refu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 (20 pts.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as follow logica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ments are relevant to the top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s (20 pts.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ammar, usage, punctu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The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Write you own argumentative essay of at least 250 words on one of these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hould the wealthier people have to pay more in taxes than the poor? If so, how mu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rich man and a poor man commit the same type of crime. The rich man is fined $10,000 while the poor man is sent to jail for one year. Is this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rich man and a poor man commit the same type of crime. They are both fined $10,000. Is this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Why punish the theft of $1000 more than the theft of $1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hould attempted murder be punished the same as mu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2 or Counte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Argument or Argu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tence or two to introduc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si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has become fashionable in the world today to condemn smoking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However, although I feel that smoking can be harmful, I do not think it should be banned comple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Red = Topic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Blue =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Introdu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0" y="167652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It has become fashionable in the world today to condemn smok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However, although I feel that smoking can be harmful, I do not think it should be banned completely. </a:t>
            </a:r>
            <a:br>
              <a:rPr sz="16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Line Callout 1 3" descr=""/>
          <p:cNvPicPr/>
          <p:nvPr/>
        </p:nvPicPr>
        <p:blipFill>
          <a:blip r:embed="rId1"/>
          <a:stretch/>
        </p:blipFill>
        <p:spPr>
          <a:xfrm>
            <a:off x="189000" y="1944720"/>
            <a:ext cx="2359080" cy="890640"/>
          </a:xfrm>
          <a:prstGeom prst="rect">
            <a:avLst/>
          </a:prstGeom>
          <a:ln w="0">
            <a:noFill/>
          </a:ln>
        </p:spPr>
      </p:pic>
      <p:pic>
        <p:nvPicPr>
          <p:cNvPr id="59" name="Line Callout 1 4" descr=""/>
          <p:cNvPicPr/>
          <p:nvPr/>
        </p:nvPicPr>
        <p:blipFill>
          <a:blip r:embed="rId2"/>
          <a:stretch/>
        </p:blipFill>
        <p:spPr>
          <a:xfrm>
            <a:off x="195120" y="3773520"/>
            <a:ext cx="235296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: Thesis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hesis statement gives either your opinion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an overview of your essa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pinion Example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I do not think it should be bann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verview Example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essay will examine some of the reasons for and against banning 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irst, smoking undoubtedly helps many people to relax. For some, it even improves concentration. </a:t>
            </a:r>
            <a:br>
              <a:rPr sz="3100"/>
            </a:br>
            <a:r>
              <a:rPr b="1" lang="en-US" sz="3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Many people like to smoke before exams or when they are relaxing with friend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Line Callout 1 3" descr=""/>
          <p:cNvPicPr/>
          <p:nvPr/>
        </p:nvPicPr>
        <p:blipFill>
          <a:blip r:embed="rId1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8"/>
          <p:cNvGrpSpPr/>
          <p:nvPr/>
        </p:nvGrpSpPr>
        <p:grpSpPr>
          <a:xfrm>
            <a:off x="228600" y="3352680"/>
            <a:ext cx="2057400" cy="2514600"/>
            <a:chOff x="228600" y="3352680"/>
            <a:chExt cx="2057400" cy="2514600"/>
          </a:xfrm>
        </p:grpSpPr>
        <p:pic>
          <p:nvPicPr>
            <p:cNvPr id="68" name="Line Callout 1 7" descr=""/>
            <p:cNvPicPr/>
            <p:nvPr/>
          </p:nvPicPr>
          <p:blipFill>
            <a:blip r:embed="rId2"/>
            <a:stretch/>
          </p:blipFill>
          <p:spPr>
            <a:xfrm>
              <a:off x="228600" y="4236480"/>
              <a:ext cx="1925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eft Brace 1"/>
            <p:cNvSpPr/>
            <p:nvPr/>
          </p:nvSpPr>
          <p:spPr>
            <a:xfrm>
              <a:off x="1911240" y="3352680"/>
              <a:ext cx="374760" cy="2514600"/>
            </a:xfrm>
            <a:custGeom>
              <a:avLst/>
              <a:gdLst>
                <a:gd name="textAreaLeft" fmla="*/ 239400 w 374760"/>
                <a:gd name="textAreaRight" fmla="*/ 375120 w 374760"/>
                <a:gd name="textAreaTop" fmla="*/ 9720 h 2514600"/>
                <a:gd name="textAreaBottom" fmla="*/ 25048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irst, smoking undoubtedly helps many people to rel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or some, it even improves concentration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Many people like to smoke before exams or when they are relaxing with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Times New Roman"/>
              </a:rPr>
              <a:t>Orange = Suppor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Line Callout 1 3" descr=""/>
          <p:cNvPicPr/>
          <p:nvPr/>
        </p:nvPicPr>
        <p:blipFill>
          <a:blip r:embed="rId1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  <p:pic>
        <p:nvPicPr>
          <p:cNvPr id="73" name="Line Callout 1 4" descr=""/>
          <p:cNvPicPr/>
          <p:nvPr/>
        </p:nvPicPr>
        <p:blipFill>
          <a:blip r:embed="rId2"/>
          <a:stretch/>
        </p:blipFill>
        <p:spPr>
          <a:xfrm>
            <a:off x="115920" y="3822840"/>
            <a:ext cx="2359080" cy="961920"/>
          </a:xfrm>
          <a:prstGeom prst="rect">
            <a:avLst/>
          </a:prstGeom>
          <a:ln w="0">
            <a:noFill/>
          </a:ln>
        </p:spPr>
      </p:pic>
      <p:pic>
        <p:nvPicPr>
          <p:cNvPr id="74" name="Line Callout 1 5" descr=""/>
          <p:cNvPicPr/>
          <p:nvPr/>
        </p:nvPicPr>
        <p:blipFill>
          <a:blip r:embed="rId3"/>
          <a:stretch/>
        </p:blipFill>
        <p:spPr>
          <a:xfrm>
            <a:off x="115920" y="2328840"/>
            <a:ext cx="2359080" cy="738360"/>
          </a:xfrm>
          <a:prstGeom prst="rect">
            <a:avLst/>
          </a:prstGeom>
          <a:ln w="0">
            <a:noFill/>
          </a:ln>
        </p:spPr>
      </p:pic>
      <p:pic>
        <p:nvPicPr>
          <p:cNvPr id="75" name="Line Callout 1 6" descr=""/>
          <p:cNvPicPr/>
          <p:nvPr/>
        </p:nvPicPr>
        <p:blipFill>
          <a:blip r:embed="rId4"/>
          <a:stretch/>
        </p:blipFill>
        <p:spPr>
          <a:xfrm>
            <a:off x="115920" y="3060720"/>
            <a:ext cx="2359080" cy="8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0:27Z</dcterms:created>
  <dc:creator>Bob</dc:creator>
  <dc:description/>
  <dc:language>en-US</dc:language>
  <cp:lastModifiedBy>Bob</cp:lastModifiedBy>
  <dcterms:modified xsi:type="dcterms:W3CDTF">2011-03-02T13:36:32Z</dcterms:modified>
  <cp:revision>108</cp:revision>
  <dc:subject/>
  <dc:title>Argumentative Essays</dc:title>
</cp:coreProperties>
</file>